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60E-4590-4301-984C-88BD4FCA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FDA-0A3B-438D-991B-E6A9D3AF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8EA-C84A-4DC6-B444-93AD7CE9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87D-46A1-44C5-8D27-E76BC506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BE2-CADD-4395-8EF2-00247CF1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BC9-F539-45EC-A43C-C962470B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980-3522-4619-AFEB-EFA9335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43E-CBDB-4B00-813F-C523FF3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7EB-BA79-477C-B7ED-30B2DA36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816-ECD4-409A-94C4-2021DD2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8FC-82FA-44FA-B517-AB45FFF7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266-72D5-4E27-B78E-39E0866C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DB64-20AF-4438-B40E-642E61B25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ess my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Antonio M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Antonio Blue Jay 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fifth to l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  <p:pic>
        <p:nvPicPr>
          <p:cNvPr id="46" name="~PP2953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fourth to l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third to last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second to la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first to last.JPG"/>
          <p:cNvPicPr/>
          <p:nvPr/>
        </p:nvPicPr>
        <p:blipFill>
          <a:blip r:embed="rId1"/>
          <a:stretch/>
        </p:blipFill>
        <p:spPr>
          <a:xfrm>
            <a:off x="1604880" y="1709640"/>
            <a:ext cx="5934240" cy="430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irst to las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Blue Jay 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13:09Z</dcterms:created>
  <dc:creator>APS USER</dc:creator>
  <dc:description/>
  <dc:language>en-US</dc:language>
  <cp:lastModifiedBy>APSUser</cp:lastModifiedBy>
  <dcterms:modified xsi:type="dcterms:W3CDTF">2012-04-04T22:48:02Z</dcterms:modified>
  <cp:revision>4</cp:revision>
  <dc:subject/>
  <dc:title>Guess my animal</dc:title>
</cp:coreProperties>
</file>